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BC8A-F269-44FF-97F3-440EF048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8202-3459-4B48-B5F6-B7E0BF8A93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EAA-C685-4377-847E-09816AC4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DB4-EA95-4A95-9DD2-076E099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C7F-628B-453A-BFE4-D7972B1D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432-0285-42E3-985A-1AEBF5A6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25DE-57D0-4AC1-A5D9-E996FCD9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0BD-6B15-4CD4-AEDE-590CA39B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4599-BE2B-4AD8-913E-7B8996D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4531-A6BC-4BD4-9FE1-50AC6FAF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DC74-94B8-4B72-83C5-45400FF0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354A-2AC3-41EF-9E16-1293714F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1281-464D-4431-825B-AF37D615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027-5E71-42DD-8CEC-8DBDA36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60E-BF69-47FB-BBDC-EF15E7D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EBD-FFF3-475C-9B8A-9D8D978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5A79-7BCB-49DA-99F4-4A8C08E0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3DBA-75B6-4366-9306-56FA9AE8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12A4-3AE6-4530-8C93-0C297145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45F-2C8B-4CF3-8AAB-1819F1BC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040-FA43-48B6-88CE-D261FAA3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C2E-7B02-491E-B098-244989E3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502-E811-411E-8921-31F4E636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352-2F9F-4F62-81C4-02A664F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751-7987-4A23-B48B-702C6CFB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72F-4CF3-448E-A33C-64CCBA2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9863-DE2E-42BD-A1F6-4A02A4C6E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22AF-49D1-4619-9B78-D0F4AFC3A6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30920"/>
            <a:ext cx="33498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DEON’S TRUMPE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905120"/>
            <a:ext cx="3502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ury’s verdict in Gideon’s original trial in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answer TWO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3730680" y="0"/>
            <a:ext cx="544500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84240"/>
            <a:ext cx="9144000" cy="41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was Gideon charged wi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How long was his sentence?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-152280" y="3564000"/>
            <a:ext cx="9296280" cy="278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22T14:11:01Z</dcterms:modified>
  <cp:revision>139</cp:revision>
  <dc:subject/>
  <dc:title>D/O: TO EXPLAIN AND IDENTIFY PROBLEMS OF ECONOMICS</dc:title>
</cp:coreProperties>
</file>